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797-7885-49C7-AAA9-BDBE2548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A3A-6C97-45A3-AEB7-4AD0DA82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109-7C65-4DD1-BD76-018827CE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DF1-DB41-45C9-A9A1-64A63AC6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1F3-7758-4501-91ED-6AD6B543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AE0-D9D2-443C-9E60-8AC59CC1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CAC-5593-47DC-BBB3-CC0B295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856-B1B1-4117-B12B-F79E628C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931-0715-47B6-BE6F-0614EAAC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B28-18F9-4123-800E-27F6F29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9FC-AFCF-4EB1-B822-10E47532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05F-82C6-4F9B-8138-264F1A1D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C967-76B2-4C15-BDC0-7028D44C6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02040" y="490680"/>
            <a:ext cx="711000" cy="996840"/>
            <a:chOff x="3002040" y="490680"/>
            <a:chExt cx="711000" cy="996840"/>
          </a:xfrm>
        </p:grpSpPr>
        <p:sp>
          <p:nvSpPr>
            <p:cNvPr id="42" name=""/>
            <p:cNvSpPr/>
            <p:nvPr/>
          </p:nvSpPr>
          <p:spPr>
            <a:xfrm flipH="1">
              <a:off x="3003480" y="522360"/>
              <a:ext cx="704880" cy="965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344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35870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455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38544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1236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239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420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5052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27744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204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609720" y="1266840"/>
              <a:ext cx="6696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4250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21552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0344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60756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42504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21552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03300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73200" y="968400"/>
              <a:ext cx="0" cy="45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59160" y="1420920"/>
              <a:ext cx="5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30360" y="1036440"/>
              <a:ext cx="0" cy="38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292200" y="1420920"/>
              <a:ext cx="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441600" y="963720"/>
              <a:ext cx="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59080" y="102888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162240" y="868680"/>
              <a:ext cx="77760" cy="5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65480" y="91152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101760" y="1420920"/>
              <a:ext cx="7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98840" y="871560"/>
              <a:ext cx="540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46360" y="935280"/>
              <a:ext cx="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31960" y="1420920"/>
              <a:ext cx="7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406680" y="782280"/>
              <a:ext cx="144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06680" y="797040"/>
              <a:ext cx="13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31960" y="793800"/>
              <a:ext cx="1144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39960" y="92556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335400" y="784080"/>
              <a:ext cx="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181320" y="79704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061800" y="795600"/>
              <a:ext cx="1270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068640" y="887040"/>
              <a:ext cx="0" cy="37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305160" y="960120"/>
              <a:ext cx="2520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3234960" y="966600"/>
              <a:ext cx="27000" cy="6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02040" y="49068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iw3i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5:27:45Z</dcterms:created>
  <dc:creator>iw3ici</dc:creator>
  <dc:description/>
  <dc:language>en-US</dc:language>
  <cp:lastModifiedBy>iw3ici</cp:lastModifiedBy>
  <dcterms:modified xsi:type="dcterms:W3CDTF">2005-03-16T15:44:45Z</dcterms:modified>
  <cp:revision>3</cp:revision>
  <dc:subject/>
  <dc:title>Presentazione di PowerPoint</dc:title>
</cp:coreProperties>
</file>